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ct" ContentType="image/x-pict"/>
  <Override PartName="/ppt/media/image3.pct" ContentType="image/x-pi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6842-667F-46AC-AA1D-7B666C61D5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328DE-3C20-4EE2-9C2C-28FE2B020D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D986E-6728-4F50-A33E-E85AD18083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ADF7C-4B29-4502-9692-978AF3CC5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A669-4A0B-452C-A73E-54E104385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E12EE-8706-4B97-A9A5-8CEE1CA57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F224-8CBA-4213-A77A-9A8C28905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DA77-3277-48A2-98AC-B432B3377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ACEC4-F715-4C7C-9A51-B9713657D0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AA35D-9AF2-43BB-9829-32831D3CC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9A1F-2E18-4935-AAFD-61A7839C8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312F2-5FBC-418C-BBB1-D32F08012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880CA-E438-49C2-9180-BAD515D8A9BD}" type="slidenum">
              <a:rPr b="0" lang="it-IT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ct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74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714"/>
                </a:solidFill>
                <a:latin typeface="Comic Sans MS"/>
              </a:rPr>
              <a:t>genetica di popolazio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4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FREQUENZE ALLELICH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04840" y="966960"/>
            <a:ext cx="880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04840" y="6678720"/>
            <a:ext cx="880884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57200" y="1447920"/>
            <a:ext cx="846288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a0aff"/>
                </a:solidFill>
                <a:latin typeface="Comic Sans MS"/>
              </a:rPr>
              <a:t>E’ piu’ vantaggioso descrivere il pool genico in termini di frequenza degli alleli: negli organismi a riproduzione sessuale sono gli alleli ad essere trasmessi alla generazione successiva. Inoltre gli alleli sono meno dei genotipi: se ci sono 2 alleli ad un locus ci sono 3 genotipi, se 3 alleli 6 genotipi e cosi’ via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380880" y="3429000"/>
            <a:ext cx="83059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e frequenze genotipiche derivano dalla quantita’ di gameti che portano un certo allele: la probabilita’ che si origini un certo genotipo dipende dalla frequenza degli alleli che lo compongo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8600" y="5589720"/>
            <a:ext cx="446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frequenza allelica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=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167720" y="5424480"/>
            <a:ext cx="415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umero di copie di un 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212360" y="5959440"/>
            <a:ext cx="436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totale di alleli nel pool ge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343400" y="5959440"/>
            <a:ext cx="4419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3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838080" y="609120"/>
            <a:ext cx="792504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0714"/>
                </a:solidFill>
                <a:latin typeface="Comic Sans MS"/>
              </a:rPr>
              <a:t>frequenza allelica nella popolazion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533520" y="1295280"/>
            <a:ext cx="80168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lcoliamo il numero di rappresentanti della coppia allelica nella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240640" y="2057400"/>
            <a:ext cx="543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M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 M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 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7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81560" y="3048120"/>
            <a:ext cx="435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 = (119 x 2) + 76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31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87320" y="3503520"/>
            <a:ext cx="443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 =  76 + (13 x 2)  =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102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579240" y="5286240"/>
            <a:ext cx="6793200" cy="13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requenza dei due alleli nella popolazione è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M = 314/416 = 0,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N = 102/416 = 0,2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236600" y="4199040"/>
            <a:ext cx="649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0aff"/>
                </a:solidFill>
                <a:latin typeface="Comic Sans MS"/>
              </a:rPr>
              <a:t>IL TOTALE DEVE ESSERE MOLTIPLICATO X 2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0aff"/>
                </a:solidFill>
                <a:latin typeface="Comic Sans MS"/>
              </a:rPr>
              <a:t>GLI ORGANISMI DIPLOIDI INTRODUCONO NE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a0aff"/>
                </a:solidFill>
                <a:latin typeface="Comic Sans MS"/>
              </a:rPr>
              <a:t>POOL </a:t>
            </a:r>
            <a:r>
              <a:rPr b="1" lang="en-US" sz="1800" spc="-1" strike="noStrike" u="sng">
                <a:solidFill>
                  <a:srgbClr val="0a0aff"/>
                </a:solidFill>
                <a:uFillTx/>
                <a:latin typeface="Comic Sans MS"/>
              </a:rPr>
              <a:t>2 ALLELI INDIPENDENTEMENTE DA QUALE ALLEL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5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560" y="837720"/>
            <a:ext cx="883908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distribuzione binomiale delle frequenze genotipi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96720" y="1828800"/>
            <a:ext cx="8468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e le coppie di alleli sono combinate a caso, la </a:t>
            </a:r>
            <a:r>
              <a:rPr b="0" lang="it-IT" sz="2400" spc="-1" strike="noStrike">
                <a:solidFill>
                  <a:srgbClr val="333399"/>
                </a:solidFill>
                <a:latin typeface="Comic Sans MS"/>
              </a:rPr>
              <a:t>probabilit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ei differenti genotipi è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020320" y="3276720"/>
            <a:ext cx="37695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M = 0,76 x 0,76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 = 0,76 x 0,24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M = 0,24 x 0,76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 = 0,24 x 0,24  =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807160" y="3811680"/>
            <a:ext cx="228600" cy="838080"/>
          </a:xfrm>
          <a:custGeom>
            <a:avLst/>
            <a:gdLst>
              <a:gd name="textAreaLeft" fmla="*/ 0 w 228600"/>
              <a:gd name="textAreaRight" fmla="*/ 82440 w 228600"/>
              <a:gd name="textAreaTop" fmla="*/ 21600 h 838080"/>
              <a:gd name="textAreaBottom" fmla="*/ 816480 h 838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153840" y="3979800"/>
            <a:ext cx="78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0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6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3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68544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distribuzione di genotipi nel campione di bedu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39880" y="3809880"/>
            <a:ext cx="6581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58  x  208  =  121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 MM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119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36  x  208  =   75   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M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7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0,06  x  208  =   12        </a:t>
            </a:r>
            <a:r>
              <a:rPr b="1" lang="en-US" sz="2400" spc="-1" strike="noStrike">
                <a:solidFill>
                  <a:srgbClr val="333399"/>
                </a:solidFill>
                <a:latin typeface="Comic Sans MS"/>
              </a:rPr>
              <a:t>NN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 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33520" y="2971800"/>
            <a:ext cx="777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distribuzione 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distrib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   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teorica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 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	</a:t>
            </a:r>
            <a:r>
              <a:rPr b="1" lang="en-US" sz="2400" spc="-1" strike="noStrike">
                <a:solidFill>
                  <a:srgbClr val="ff1482"/>
                </a:solidFill>
                <a:latin typeface="Comic Sans MS"/>
              </a:rPr>
              <a:t>speriment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7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28600" y="838080"/>
            <a:ext cx="86868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combinazione da incrocio casuale e frequenze relative nella popolazione dei beduini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7" name=""/>
          <p:cNvGraphicFramePr/>
          <p:nvPr/>
        </p:nvGraphicFramePr>
        <p:xfrm>
          <a:off x="2133720" y="2498760"/>
          <a:ext cx="4876560" cy="3048120"/>
        </p:xfrm>
        <a:graphic>
          <a:graphicData uri="http://schemas.openxmlformats.org/drawingml/2006/table">
            <a:tbl>
              <a:tblPr/>
              <a:tblGrid>
                <a:gridCol w="1625400"/>
                <a:gridCol w="1625400"/>
                <a:gridCol w="1625760"/>
              </a:tblGrid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5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8" name=""/>
          <p:cNvSpPr/>
          <p:nvPr/>
        </p:nvSpPr>
        <p:spPr>
          <a:xfrm>
            <a:off x="2322000" y="1981080"/>
            <a:ext cx="438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M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58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MN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3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NN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279440" y="2955960"/>
            <a:ext cx="854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543960" y="2955960"/>
            <a:ext cx="8632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0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547360" y="272556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0,34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ff0714"/>
                </a:solidFill>
                <a:latin typeface="Comic Sans MS"/>
              </a:rPr>
              <a:t>0,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548800" y="3716280"/>
            <a:ext cx="392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Comic Sans MS"/>
              </a:rPr>
              <a:t>0,21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  0,13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US" sz="2400" spc="-1" strike="noStrike">
                <a:solidFill>
                  <a:srgbClr val="009999"/>
                </a:solidFill>
                <a:latin typeface="Comic Sans MS"/>
              </a:rPr>
              <a:t>0,0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553480" y="4707000"/>
            <a:ext cx="409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714"/>
                </a:solidFill>
                <a:latin typeface="Comic Sans MS"/>
              </a:rPr>
              <a:t>0,03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</a:t>
            </a:r>
            <a:r>
              <a:rPr b="0" lang="it-IT" sz="2400" spc="-1" strike="noStrike">
                <a:solidFill>
                  <a:srgbClr val="009999"/>
                </a:solidFill>
                <a:latin typeface="Comic Sans MS"/>
              </a:rPr>
              <a:t>0,02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0,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4040" y="5865840"/>
            <a:ext cx="7870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ota che 3 sono incroci reciproci e quindi vi sono so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3 differenti combin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8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520" y="6091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frequenza dei discendenti prodotti da incroci casuali nella popolazione di bedui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380880" y="1905120"/>
          <a:ext cx="8610840" cy="4724280"/>
        </p:xfrm>
        <a:graphic>
          <a:graphicData uri="http://schemas.openxmlformats.org/drawingml/2006/table">
            <a:tbl>
              <a:tblPr/>
              <a:tblGrid>
                <a:gridCol w="2210040"/>
                <a:gridCol w="1676160"/>
                <a:gridCol w="4724640"/>
              </a:tblGrid>
              <a:tr h="6559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generazion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parental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quenze nei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discendenti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ipo di incroci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frequenz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it-IT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           MN       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x MM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3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x 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4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21          0,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M x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N x M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1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          0,06       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7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MN x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1       0,0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8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N x N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                         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0,0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Comic Sans MS"/>
                        </a:rPr>
                        <a:t>generazione n+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714"/>
                          </a:solidFill>
                          <a:latin typeface="Comic Sans MS"/>
                        </a:rPr>
                        <a:t>generazione 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Comic Sans MS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a0aff"/>
                          </a:solidFill>
                          <a:latin typeface="Comic Sans MS"/>
                        </a:rPr>
                        <a:t>0,58          0,34       0,0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75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0714"/>
                          </a:solidFill>
                          <a:latin typeface="Comic Sans MS"/>
                        </a:rPr>
                        <a:t>0,58          0,36       0,0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9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9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523520" y="762120"/>
            <a:ext cx="6629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antigeni M e N in altre popolazion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36440" y="1903320"/>
            <a:ext cx="8702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fenotipi                   frequen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opolazione    #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  osservati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geni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individui      M      M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   N 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p(M)     q(N)</a:t>
            </a:r>
            <a:r>
              <a:rPr b="1" lang="en-US" sz="20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30877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179244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20600" y="285768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4200" y="3182760"/>
            <a:ext cx="8138880" cy="16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Pueblo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140         83     46     11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    0,76     0,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Brooklyn     1849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541    903   405  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0,54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0,4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aborigeni     102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 3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	</a:t>
            </a: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   44     55           0,25     0,7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333399"/>
                </a:solidFill>
                <a:latin typeface="Comic Sans MS"/>
              </a:rPr>
              <a:t>australian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0" y="5145120"/>
            <a:ext cx="9144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50680" y="5276880"/>
            <a:ext cx="6807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beduini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       208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0714"/>
                </a:solidFill>
                <a:latin typeface="Comic Sans MS"/>
              </a:rPr>
              <a:t>   119    76     13           0,76     0,2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08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990720" y="1218960"/>
            <a:ext cx="7619760" cy="19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          </a:t>
            </a:r>
            <a:r>
              <a:rPr b="1" lang="it-IT" sz="4000" spc="-1" strike="noStrike">
                <a:solidFill>
                  <a:srgbClr val="ff1482"/>
                </a:solidFill>
                <a:latin typeface="Comic Sans MS"/>
              </a:rPr>
              <a:t>importante</a:t>
            </a:r>
            <a:br>
              <a:rPr sz="3600"/>
            </a:b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l’equilibrio di Hardy-Weinberg si realizza s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934560" y="3124080"/>
            <a:ext cx="6670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 è accoppiamento casua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vi è selezione per un particolare alle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vi sono mutazion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vi è immigr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vi è una grande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fit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1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858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Cosa vuol dire incroci casuali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04920" y="160020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he i fenotipi originati dagli alleli del locus in esame non condizionano la possibilita’ di riprodursi del portatore: cioe’ tutti i genotipi hanno la stessa possibilita’ di fornire alleli al pool della generazione success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834480" y="4343400"/>
            <a:ext cx="723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14"/>
                </a:solidFill>
                <a:latin typeface="Comic Sans MS"/>
              </a:rPr>
              <a:t>BISOGNA SCEGLIERE CON ATTENZIONE IL LOC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714"/>
                </a:solidFill>
                <a:latin typeface="Comic Sans MS"/>
              </a:rPr>
              <a:t>DA STUDI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2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143000" y="685800"/>
            <a:ext cx="6400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incrocio casuale</a:t>
            </a: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</a:t>
            </a:r>
            <a:r>
              <a:rPr b="1" lang="it-IT" sz="2400" spc="-1" strike="noStrike">
                <a:solidFill>
                  <a:srgbClr val="ff1482"/>
                </a:solidFill>
                <a:latin typeface="Comic Sans MS"/>
              </a:rPr>
              <a:t>ed</a:t>
            </a: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inincrocio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533520" y="1447920"/>
            <a:ext cx="79405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ncrocio fra individui più strettamente correlati della media della popolazione esamin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33520" y="2362320"/>
            <a:ext cx="79405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 livelli di inincrocio nelle popolazioni naturali sono una conseguenza dell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distribuzione geograf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meccanismo di riprodu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caratteristiche comportament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0" y="4952880"/>
            <a:ext cx="9144000" cy="192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CONSEGUENZE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sulla struttura della popolazione</a:t>
            </a:r>
            <a:r>
              <a:rPr b="0" lang="it-IT" sz="2800" spc="-1" strike="noStrike">
                <a:solidFill>
                  <a:srgbClr val="0a0aff"/>
                </a:solidFill>
                <a:latin typeface="Comic Sans MS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aumento dell’omozigosi al di là del livello predetto dall’equilibrio di Hardy-Weinber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3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61960" y="533520"/>
            <a:ext cx="60958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714"/>
                </a:solidFill>
                <a:latin typeface="Comic Sans MS"/>
              </a:rPr>
              <a:t>Aspetti diversi dell’ereditarieta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72880" y="135108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949320"/>
            <a:ext cx="845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a genetica classica studia i processi genetici che riguardano i singoli individui e come i geni vengono trasmessi da un individuo all’altr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’unita’ di studio e’ l’individu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57200" y="5108400"/>
            <a:ext cx="8305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a genetica di popolazione studia l’ereditarieta’ d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caratteri determinati da uno o pochi geni in gruppi di individ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80880" y="2930400"/>
            <a:ext cx="853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genetica molecolare studia la natura molecolare della eredita’: come viene codificata nel DNA e come i processi biochimici la traducano in un fenotip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’interesse e’ concentrato sulla cellu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5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362320" y="456840"/>
            <a:ext cx="39621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deriva genetic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09480" y="1219320"/>
            <a:ext cx="7712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piccole popolazioni le fluttuazioni casuali della frequenza genica, generazione dopo generazione, può portare alla eliminazione di un allele e quindi alla fissazione di una alternativ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9480" y="2971800"/>
            <a:ext cx="78663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Un tipo particolare  di deriva genetica si ha quando un piccolo gruppo di individui si stacca da una popolazione più ampia &gt; </a:t>
            </a:r>
            <a:r>
              <a:rPr b="1" lang="it-IT" sz="3600" spc="-1" strike="noStrike">
                <a:solidFill>
                  <a:srgbClr val="0a0aff"/>
                </a:solidFill>
                <a:latin typeface="Comic Sans MS"/>
              </a:rPr>
              <a:t>effetto del fondato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Indiani d’Amer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Dankers, Ami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ff0714"/>
                </a:solidFill>
                <a:latin typeface="Comic Sans MS"/>
              </a:rPr>
              <a:t>Drosophila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 “</a:t>
            </a:r>
            <a:r>
              <a:rPr b="1" i="1" lang="it-IT" sz="2400" spc="-1" strike="noStrike">
                <a:solidFill>
                  <a:srgbClr val="ff0714"/>
                </a:solidFill>
                <a:latin typeface="Comic Sans MS"/>
              </a:rPr>
              <a:t>picture winge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255040" y="5977080"/>
            <a:ext cx="5577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a0aff"/>
                </a:solidFill>
                <a:latin typeface="Comic Sans MS"/>
              </a:rPr>
              <a:t>effetto collo di bottigl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4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6094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drosophila “puncted wing” Hawai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553000" y="3427560"/>
            <a:ext cx="184320" cy="5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4987800" y="3992400"/>
            <a:ext cx="184320" cy="5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4" name="" descr=""/>
          <p:cNvPicPr/>
          <p:nvPr/>
        </p:nvPicPr>
        <p:blipFill>
          <a:blip r:embed="rId1"/>
          <a:stretch/>
        </p:blipFill>
        <p:spPr>
          <a:xfrm>
            <a:off x="762120" y="1077840"/>
            <a:ext cx="8001000" cy="5707080"/>
          </a:xfrm>
          <a:prstGeom prst="rect">
            <a:avLst/>
          </a:prstGeom>
          <a:ln w="0">
            <a:noFill/>
          </a:ln>
        </p:spPr>
      </p:pic>
      <p:grpSp>
        <p:nvGrpSpPr>
          <p:cNvPr id="25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56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mut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5640" y="1295280"/>
            <a:ext cx="779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fonte della variabilità genetica e base dell’evoluzi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09480" y="1828800"/>
            <a:ext cx="7925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La maggior parte delle nuove mutazioni, anche se non vi è selezione contro di esse, non riesce ad entrare nella popolazione per effetto della deriva genet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’altro canto, può entrare nella popolazione e fissarsi, specie in una piccola popolazione, sempre per lo stesso meccanismo di deriva genetic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00" y="4722840"/>
            <a:ext cx="761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vantaggio dell’eterozigote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: dipende dall’ambient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utazioni sfavorevoli o neutre possono rivelars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vantaggios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66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7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anemia falciform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6320" y="1066680"/>
            <a:ext cx="89154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anemia falciforme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: gli omozigoti Sk/Sk presentano una forte mortalità infantile; gli eterozigoti si trovano fino al 40% nelle popolazioni dell’Africa orientale, della Grecia , dell’India e nel bacino del Mediterraneo. Tale frequenza si può spiegare solo ammettendo un vantaggio degli eterozigot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’area di distribuzione coincide con le regioni in cui la malaria è allo stato endemico. Il </a:t>
            </a:r>
            <a:r>
              <a:rPr b="0" i="1" lang="it-IT" sz="2400" spc="-1" strike="noStrike">
                <a:solidFill>
                  <a:srgbClr val="000000"/>
                </a:solidFill>
                <a:latin typeface="Comic Sans MS"/>
              </a:rPr>
              <a:t>Plasmodium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è ben adattato agli eritrociti normali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76320" y="4570560"/>
            <a:ext cx="8839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Lo svantaggio conseguente al gene </a:t>
            </a:r>
            <a:r>
              <a:rPr b="1" i="1" lang="it-IT" sz="2400" spc="-1" strike="noStrike">
                <a:solidFill>
                  <a:srgbClr val="0a0aff"/>
                </a:solidFill>
                <a:latin typeface="Comic Sans MS"/>
              </a:rPr>
              <a:t>Sk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 allo stato omozigote è controbilanciato dalla resistenza alla malaria conferita ai portatori eterozigoti. Questo porta a stabilire un equilibrio tra i geni </a:t>
            </a:r>
            <a:r>
              <a:rPr b="1" i="1" lang="it-IT" sz="2400" spc="-1" strike="noStrike">
                <a:solidFill>
                  <a:srgbClr val="0a0aff"/>
                </a:solidFill>
                <a:latin typeface="Comic Sans MS"/>
              </a:rPr>
              <a:t>Sk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 e </a:t>
            </a:r>
            <a:r>
              <a:rPr b="1" i="1" lang="it-IT" sz="2400" spc="-1" strike="noStrike">
                <a:solidFill>
                  <a:srgbClr val="0a0aff"/>
                </a:solidFill>
                <a:latin typeface="Comic Sans MS"/>
              </a:rPr>
              <a:t>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4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75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6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1482"/>
                </a:solidFill>
                <a:latin typeface="Comic Sans MS"/>
              </a:rPr>
              <a:t>migrazion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457200" y="990720"/>
            <a:ext cx="7407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flusso genic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introduce nuovi alleli nella popolazio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Comic Sans MS"/>
              </a:rPr>
              <a:t>cambia le frequenze geniche nella popolazion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17680" y="2590920"/>
            <a:ext cx="81691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Conseguenz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a0a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attraverso lo scambio genico le popolazioni rimangono simili e quindi previene che le popolazioni evolvano tra di loro differenze da un punto di vista genet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a0aff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migrazione tra popolazioni tende ad aumentare le dimensioni della popolazione, riducendo gli effetti della deriva gen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8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75960" y="8377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                  </a:t>
            </a:r>
            <a:r>
              <a:rPr b="1" lang="it-IT" sz="3600" spc="-1" strike="noStrike">
                <a:solidFill>
                  <a:srgbClr val="ff1482"/>
                </a:solidFill>
                <a:latin typeface="Comic Sans MS"/>
              </a:rPr>
              <a:t>fitness:</a:t>
            </a: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 </a:t>
            </a:r>
            <a:br>
              <a:rPr sz="2800"/>
            </a:b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capacità riproduttiva di un dato genotip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304920" y="2438280"/>
            <a:ext cx="86104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La selezione naturale agisce selezionando nel pool genico di una popolazione i genotipi piu adatti ad un certo ambiente: un certo genotipo ha piu’ possibilita’ dell’altro di contribuire alla generazione successiva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HA FITNESS MAGGI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36600" y="4646520"/>
            <a:ext cx="41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albinismo negli indiani Hop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mutazione B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29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6212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Bar: ridotta fitnes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1"/>
          <a:stretch/>
        </p:blipFill>
        <p:spPr>
          <a:xfrm>
            <a:off x="0" y="1739880"/>
            <a:ext cx="5486400" cy="5068800"/>
          </a:xfrm>
          <a:prstGeom prst="rect">
            <a:avLst/>
          </a:prstGeom>
          <a:ln w="0">
            <a:noFill/>
          </a:ln>
        </p:spPr>
      </p:pic>
      <p:grpSp>
        <p:nvGrpSpPr>
          <p:cNvPr id="30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301" name="" descr=""/>
            <p:cNvPicPr/>
            <p:nvPr/>
          </p:nvPicPr>
          <p:blipFill>
            <a:blip r:embed="rId2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714"/>
                </a:solidFill>
                <a:latin typeface="Comic Sans MS"/>
              </a:rPr>
              <a:t>I geni nelle popolazioni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216684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Da un punto di vista genetico vi sono due fondamentali differenze tra esperimenti di laboratorio e popolazioni naturali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67680" y="3247920"/>
            <a:ext cx="93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Comic Sans MS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 laboratorio la frequenza degli alleli è fissata dal pian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sperimentale, in popolazioni naturali questa è variab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65040" y="4772160"/>
            <a:ext cx="8474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2.  In laboratorio gli accoppiamenti seguono uno schem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sperimentale, in popolazioni naturali sono casua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64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7631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7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ff0714"/>
                </a:solidFill>
                <a:latin typeface="Comic Sans MS"/>
              </a:rPr>
              <a:t>La genetica di popolazione studia l’ereditarieta’ di caratteri determinati da uno o pochi geni in </a:t>
            </a:r>
            <a:r>
              <a:rPr b="1" lang="it-IT" sz="2400" spc="-1" strike="noStrike">
                <a:solidFill>
                  <a:srgbClr val="ff0714"/>
                </a:solidFill>
                <a:latin typeface="Comic Sans MS"/>
              </a:rPr>
              <a:t>gruppi di individu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14120" y="1447920"/>
            <a:ext cx="747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in una popolazione mendeliana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2438280"/>
            <a:ext cx="8229600" cy="35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gruppo di individui di una stessa specie in una data area i cui membri possono accoppiarsi e che quindi condividono un insieme di alleli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Comic Sans MS"/>
              </a:rPr>
              <a:t>pool genic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7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9140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Tutti gli individui di una specie condividono gli stessi loc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018440" y="3387600"/>
            <a:ext cx="25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333399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86720" y="4572000"/>
            <a:ext cx="80337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ciascun pool genico contiene tut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gli alleli che specificano per tutti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i caratteri di tutta la popolazion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914400" y="2362320"/>
            <a:ext cx="71629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buClr>
                <a:srgbClr val="0a0aff"/>
              </a:buClr>
              <a:buFont typeface="Monotype Sorts" charset="2"/>
              <a:buChar char="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a0aff"/>
                </a:solidFill>
                <a:latin typeface="Comic Sans MS"/>
              </a:rPr>
              <a:t>I loci possono presentare piu’ alleli: gruppi di individui possono presentare assortimenti allelici differenti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a0aff"/>
                </a:solidFill>
                <a:uFillTx/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a0aff"/>
                </a:solidFill>
                <a:uFillTx/>
                <a:latin typeface="Comic Sans MS"/>
              </a:rPr>
              <a:t>	</a:t>
            </a:r>
            <a:r>
              <a:rPr b="1" lang="en-US" sz="2800" spc="-1" strike="noStrike" u="sng">
                <a:solidFill>
                  <a:srgbClr val="0a0aff"/>
                </a:solidFill>
                <a:uFillTx/>
                <a:latin typeface="Comic Sans MS"/>
              </a:rPr>
              <a:t>genotipi differen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8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714"/>
                </a:solidFill>
                <a:latin typeface="Comic Sans MS"/>
              </a:rPr>
              <a:t>legge di HARDY - WEINBE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93640" y="2209680"/>
            <a:ext cx="77882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In una popolazione panmittica all’equilibrio, che non presenti selezione, mutazione, migrazione e che sia composta di un numero elevato di individui, il rapporto tra gli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alleli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e tra i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genotipi</a:t>
            </a:r>
            <a:r>
              <a:rPr b="1" lang="it-IT" sz="3200" spc="-1" strike="noStrike">
                <a:solidFill>
                  <a:srgbClr val="000000"/>
                </a:solidFill>
                <a:latin typeface="Comic Sans MS"/>
              </a:rPr>
              <a:t> è costante da una generazione all’altr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9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120" y="762120"/>
            <a:ext cx="853452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Consideriamo una popolazione il cui pool genico contiene gli alleli </a:t>
            </a: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A </a:t>
            </a:r>
            <a:r>
              <a:rPr b="1" lang="it-IT" sz="2800" spc="-1" strike="noStrike">
                <a:solidFill>
                  <a:srgbClr val="ff0714"/>
                </a:solidFill>
                <a:latin typeface="Comic Sans MS"/>
              </a:rPr>
              <a:t> e </a:t>
            </a:r>
            <a:r>
              <a:rPr b="1" i="1" lang="it-IT" sz="2800" spc="-1" strike="noStrike">
                <a:solidFill>
                  <a:srgbClr val="ff0714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63320" y="1600200"/>
            <a:ext cx="77076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indichiamo 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p</a:t>
            </a: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requenza dell’all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q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frequenza dell’allele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somma degli alleli deve essere 100%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e quindi     </a:t>
            </a:r>
            <a:r>
              <a:rPr b="1" lang="it-IT" sz="2400" spc="-1" strike="noStrike">
                <a:solidFill>
                  <a:srgbClr val="0a0aff"/>
                </a:solidFill>
                <a:latin typeface="Comic Sans MS"/>
              </a:rPr>
              <a:t>p + q =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726200" y="3657600"/>
            <a:ext cx="4883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la loro distribuzione casuale sar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         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AA + 2Aa + a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p</a:t>
            </a:r>
            <a:r>
              <a:rPr b="1" lang="it-IT" sz="3200" spc="-1" strike="noStrike" baseline="30000">
                <a:solidFill>
                  <a:srgbClr val="0a0aff"/>
                </a:solidFill>
                <a:latin typeface="Comic Sans MS"/>
              </a:rPr>
              <a:t>2</a:t>
            </a:r>
            <a:r>
              <a:rPr b="1" lang="it-IT" sz="3200" spc="-1" strike="noStrike">
                <a:solidFill>
                  <a:srgbClr val="0a0aff"/>
                </a:solidFill>
                <a:latin typeface="Comic Sans MS"/>
              </a:rPr>
              <a:t> + 2pq + q</a:t>
            </a:r>
            <a:r>
              <a:rPr b="1" lang="it-IT" sz="3200" spc="-1" strike="noStrike" baseline="30000">
                <a:solidFill>
                  <a:srgbClr val="0a0aff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434600" y="5430960"/>
            <a:ext cx="5865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non altro che l’espressione binomiale 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	</a:t>
            </a:r>
            <a:r>
              <a:rPr b="0" lang="it-IT" sz="2400" spc="-1" strike="noStrike">
                <a:solidFill>
                  <a:srgbClr val="0a0aff"/>
                </a:solidFill>
                <a:latin typeface="Comic Sans MS"/>
              </a:rPr>
              <a:t> </a:t>
            </a:r>
            <a:r>
              <a:rPr b="0" lang="it-IT" sz="3600" spc="-1" strike="noStrike">
                <a:solidFill>
                  <a:srgbClr val="0a0aff"/>
                </a:solidFill>
                <a:latin typeface="Comic Sans MS"/>
              </a:rPr>
              <a:t>(</a:t>
            </a:r>
            <a:r>
              <a:rPr b="1" lang="it-IT" sz="3600" spc="-1" strike="noStrike">
                <a:solidFill>
                  <a:srgbClr val="0a0aff"/>
                </a:solidFill>
                <a:latin typeface="Comic Sans MS"/>
              </a:rPr>
              <a:t>p + q)</a:t>
            </a:r>
            <a:r>
              <a:rPr b="1" lang="it-IT" sz="3600" spc="-1" strike="noStrike" baseline="30000">
                <a:solidFill>
                  <a:srgbClr val="0a0aff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01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838080" y="10663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600" spc="-1" strike="noStrike">
                <a:solidFill>
                  <a:srgbClr val="ff0714"/>
                </a:solidFill>
                <a:latin typeface="Comic Sans MS"/>
              </a:rPr>
              <a:t>frequenze genotipich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09520" y="31003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09520" y="6678720"/>
            <a:ext cx="88092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04920" y="2743200"/>
            <a:ext cx="8534160" cy="10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struttura genetica di una popolazione viene espressa in termini sia di frequenza allelica che genotipica</a:t>
            </a:r>
            <a:r>
              <a:rPr b="1" lang="en-US" sz="32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04920" y="4191120"/>
            <a:ext cx="8534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Per calcolare la frequenza genotipica basta contare gli individui con un certo fenotipo e dividere per il totale degl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individui. 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La somma dei diversi genotipi deve essere = 1</a:t>
            </a: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1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12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8380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ff1482"/>
                </a:solidFill>
                <a:latin typeface="Comic Sans MS"/>
              </a:rPr>
              <a:t>frequenza genotipica della coppia allelica M e N in una popola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44440" y="1600200"/>
            <a:ext cx="8899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onsideriamo una popolazione di beduini del deserto siria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600200" y="2116080"/>
            <a:ext cx="537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MN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19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 76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13    </a:t>
            </a: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20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22360" y="3657600"/>
            <a:ext cx="70009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Frequenze genotipiche:   f(MM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)= 119/208 = 0.5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f(MN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)=   76/208 = 0.3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                           </a:t>
            </a:r>
            <a:r>
              <a:rPr b="0" lang="en-US" sz="2400" spc="-1" strike="noStrike">
                <a:solidFill>
                  <a:srgbClr val="0a0aff"/>
                </a:solidFill>
                <a:latin typeface="Comic Sans MS"/>
              </a:rPr>
              <a:t>f(NN</a:t>
            </a:r>
            <a:r>
              <a:rPr b="1" lang="en-US" sz="2400" spc="-1" strike="noStrike">
                <a:solidFill>
                  <a:srgbClr val="0a0aff"/>
                </a:solidFill>
                <a:latin typeface="Comic Sans MS"/>
              </a:rPr>
              <a:t>)=   13/208 = 0.0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73280" y="5105520"/>
            <a:ext cx="7532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714"/>
                </a:solidFill>
                <a:latin typeface="Comic Sans MS"/>
              </a:rPr>
              <a:t>La somma e’ 1 e le singole percentuali descrivono quantitativamente il pool genico per quel locus all’interno del gruppo di individui considera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6560" y="15840"/>
            <a:ext cx="8898840" cy="6820200"/>
            <a:chOff x="16560" y="15840"/>
            <a:chExt cx="8898840" cy="6820200"/>
          </a:xfrm>
        </p:grpSpPr>
        <p:pic>
          <p:nvPicPr>
            <p:cNvPr id="123" name="" descr=""/>
            <p:cNvPicPr/>
            <p:nvPr/>
          </p:nvPicPr>
          <p:blipFill>
            <a:blip r:embed="rId1">
              <a:grayscl/>
            </a:blip>
            <a:stretch/>
          </p:blipFill>
          <p:spPr>
            <a:xfrm>
              <a:off x="76320" y="15840"/>
              <a:ext cx="720720" cy="806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4" name=""/>
            <p:cNvSpPr/>
            <p:nvPr/>
          </p:nvSpPr>
          <p:spPr>
            <a:xfrm>
              <a:off x="841320" y="133200"/>
              <a:ext cx="2246040" cy="38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9560" rIns="79560" tIns="39600" bIns="396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795240"/>
                  <a:tab algn="l" pos="1590840"/>
                  <a:tab algn="l" pos="2386080"/>
                  <a:tab algn="l" pos="3181320"/>
                  <a:tab algn="l" pos="3976560"/>
                  <a:tab algn="l" pos="4772160"/>
                  <a:tab algn="l" pos="5567400"/>
                  <a:tab algn="l" pos="6362640"/>
                  <a:tab algn="l" pos="7157880"/>
                  <a:tab algn="l" pos="7953480"/>
                  <a:tab algn="l" pos="8748720"/>
                  <a:tab algn="l" pos="9543960"/>
                  <a:tab algn="l" pos="1033956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omic Sans MS"/>
                </a:rPr>
                <a:t>Universita’ di Bari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2120" y="549360"/>
              <a:ext cx="81532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"/>
            <p:cNvSpPr txBox="1"/>
            <p:nvPr/>
          </p:nvSpPr>
          <p:spPr>
            <a:xfrm>
              <a:off x="3809880" y="92160"/>
              <a:ext cx="4876920" cy="3934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2600">
                    <a:solidFill>
                      <a:srgbClr val="eaeaea"/>
                    </a:solidFill>
                    <a:miter/>
                  </a:ln>
                  <a:solidFill>
                    <a:srgbClr val="000000"/>
                  </a:solidFill>
                  <a:effectLst>
                    <a:outerShdw dist="153753" dir="2700000" blurRad="0" rotWithShape="0">
                      <a:srgbClr val="c0c0c0"/>
                    </a:outerShdw>
                  </a:effectLst>
                  <a:latin typeface="Comic Sans MS"/>
                </a:rPr>
                <a:t>Sc.Biosanitarie   Genetica I</a:t>
              </a:r>
              <a:endParaRPr b="1" i="1" lang="en-US" sz="18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000000"/>
                </a:solidFill>
                <a:effectLst>
                  <a:outerShdw dist="153753" dir="2700000" blurRad="0" rotWithShape="0">
                    <a:srgbClr val="c0c0c0"/>
                  </a:outerShdw>
                </a:effectLst>
                <a:latin typeface="Comic Sans MS"/>
                <a:ea typeface="Comic Sans MS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16560" y="6589800"/>
              <a:ext cx="7840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000" spc="-1" strike="noStrike">
                  <a:solidFill>
                    <a:srgbClr val="000000"/>
                  </a:solidFill>
                  <a:latin typeface="Comic Sans MS"/>
                </a:rPr>
                <a:t>by GP&amp;NA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5:19:36Z</dcterms:created>
  <dc:creator>Palumbo</dc:creator>
  <dc:description/>
  <dc:language>en-US</dc:language>
  <cp:lastModifiedBy>Rocchi</cp:lastModifiedBy>
  <dcterms:modified xsi:type="dcterms:W3CDTF">2003-02-03T10:26:02Z</dcterms:modified>
  <cp:revision>48</cp:revision>
  <dc:subject/>
  <dc:title>I geni nelle popolazioni</dc:title>
</cp:coreProperties>
</file>